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EBE-C7F5-4D44-87DD-A9DA818B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567-141E-4249-B709-A3B48B30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AC9-C9F6-45BC-89A3-2178E373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C17-FEC6-46D3-9132-9FA58F88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A49-11FA-47A3-8C49-FCAC40BB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AAD-E26A-49A7-B4A2-1BEA39E9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B71-2360-43FB-8FFD-DA2EE96A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36A5-6AB3-4459-AB2A-DF44B530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8D2-4E57-46CA-8C7A-437B8E08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A784-E83F-420B-BC28-4FAA4A96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0AF4-CA78-4950-B132-1B3ECB61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231-6F46-4361-81DC-67DB03B3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D374-FCDF-4E9A-8AB2-38F38AAA0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1120" y="609120"/>
            <a:ext cx="4495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an Baptiste La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dividuals change themsel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embers of a species were exactly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recognized a need to chang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mselves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ency toward per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266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&amp; Disuse: organisms could alter the  size or shape of particular organs by using their bodies in new ways or by not using a body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ed characteristics (develop during one’s lifetime/not born with them) are passed to one’s 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ccumulation of many small changes leads to a big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Mar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long necks on gira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iraffes stretched their necks to r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leaves on the trees and pas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stretched necks to their off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1480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les 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hanges occur due to population reproduction r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a species vary in some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y environment, resources are limited so not all members of the species can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2819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ariations give organisms a better chance of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ganism is born with certain characteristics and does its best to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ndividuals die before they can pass on their genes - the “fittest” will survive and pass on their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w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long necks on a giraf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iraffes that had longer necks li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r and passed on their genes f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er necks to their offspring - giraff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shorter necks ran out of food fir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ied off more quickly = l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spring = survival of the fit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fcf"/>
            </a:gs>
            <a:gs pos="100000">
              <a:srgbClr val="00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22:14Z</dcterms:created>
  <dc:creator>Clayton Johns</dc:creator>
  <dc:description/>
  <dc:language>en-US</dc:language>
  <cp:lastModifiedBy>Clayton Johns</cp:lastModifiedBy>
  <dcterms:modified xsi:type="dcterms:W3CDTF">2009-03-10T14:49:28Z</dcterms:modified>
  <cp:revision>7</cp:revision>
  <dc:subject/>
  <dc:title>History of Evolution</dc:title>
</cp:coreProperties>
</file>